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4FD-20C5-41A9-B150-33F48D62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22F0-C7C7-4206-B71C-8214FB23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956-CD6D-44C7-B840-0205DA97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FDE0-042A-4CA6-83A0-F7355AF9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703E-9BE5-4792-A2A3-7C0301A9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7B6-CEE6-4757-814D-E575EB99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25E4-F34C-4477-BBC6-60450AAB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E07-2A3F-4F6E-B26A-F77C04D5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0A3-A76E-4F4B-94A0-6B4BAFF5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F546-0E6B-44A3-B4FD-8C1E0A65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7209-8F49-4F3E-B6A8-CD0BB175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5A5-B307-45CE-8A23-FB88F329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C0FB-3B19-4144-BB54-C4917D6E13C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2060640"/>
            <a:ext cx="6477120" cy="481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Tahoma"/>
                <a:cs typeface="????Boutros Rokaa"/>
              </a:rPr>
              <a:t>إلى الله صوتي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لهِ صَوْتِي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َأَصْرُخُ إِلَى اللهِ صَوْتِي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َيَصِيخُ لِي..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َدِي في اللَّيْلِ انْبَسَطَتْ وَلَمْ تَكِلّ.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قَدْ أَبَتْ نَفْسِي أَنْ تَتَعَزَّى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ذْكُرُ الْمَاضِي فَأَقْلَقُ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تَأَمَّلُ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َيُغْشَى عَلَى رُوحِي..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76320"/>
            <a:ext cx="9144000" cy="135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َكَّرْتُ فِي الأَيَّامِ القَدِيمَةِ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ِي السِّنِينِ الدَّهْرِيَّة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ذْكُرُ تَرْنِيمِي فِي اللَّيْل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تَأَمَّلُ بقَلْبي وَرُوحِي يَبْحَثُ.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330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مَدَى الدُّهُورِ يُقْصِي السَّيِّدُ؟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َلا يَعُودُ يَرْضَى مِنْ بَعْدُ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عَلَى الدَّوَامِ انْقَضَتْ رَحْمَتُهُ،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َانْقَطَعَتْ كَلِمَتُهُ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ِلِى جِيلٍ فَجِيل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تُرَى نَسِيَ اللهُ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مْ حَبَسَ عَلى الغَضَبِ أَحَشَاءَهُ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06:55:47Z</dcterms:created>
  <dc:creator>-</dc:creator>
  <dc:description/>
  <dc:language>en-US</dc:language>
  <cp:lastModifiedBy>-</cp:lastModifiedBy>
  <dcterms:modified xsi:type="dcterms:W3CDTF">2003-04-18T11:22:21Z</dcterms:modified>
  <cp:revision>3</cp:revision>
  <dc:subject/>
  <dc:title>Slide 1</dc:title>
</cp:coreProperties>
</file>